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4B9B-FE70-4FF4-8509-781537582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A98A-0F96-4DB6-9389-A612C87D2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5CEAEC-3D11-44BE-9ED9-4439985B4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C9B142-B016-48B5-9D41-10C163FDE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1B4D7E-DC82-4B7F-878E-57438039F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1C5672-B9F5-43AA-978E-F5023223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DDFA3B-8BB1-4440-AFEC-6420507E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00C2E4-85D3-4ACD-AF99-41CE269A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C921C9-16C2-42B1-A874-81FCC5EB5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9C42C1-A1D0-4AD1-AF5C-A014ADB6E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4F973D-8D41-4B74-BBF9-8C26CD217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73A94D-985D-4C53-9562-0509FD862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44ED-C72E-4F30-B45D-44E58EF44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E1A28A-9C69-4192-9E49-C61056FAD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2DAB7C-2A75-4473-82CB-9B7B64D3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4293B4-51D7-403B-A085-7486422BE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5BA6DE-CE6F-41AA-B39D-48F9D09C4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7D4D34-8CAE-407B-A7B7-D81012218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F4F9F2-9FC0-4398-80DF-19A7A5B1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FCFB58-FEF6-4BAA-AC9E-7A30CE2F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04958E-1514-48D7-9621-9D2A80FE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10B89F-E388-4F6C-8B80-F857C0AAE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B8B29A-6B00-4977-BED1-913FE0E2E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5E41-9258-4868-BBBD-CC0252479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172C3A-F6C5-402C-8C58-B74EA09D6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F9F4EA-5BAC-4D19-8F8A-E7C274C19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A2FE91-2211-4BED-8FBE-6963813A0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B130FB-79ED-4143-B2A1-BAE9A2B7B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3A1BCC-67F5-447E-B67C-7F68B2F89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DC1657-5DA2-4A0B-AC6F-AACF46DF8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F4BC10-3E5C-428E-A6BE-E6F825356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17055A-9B20-454F-85F0-16E776C5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0B56D0-C9F6-4576-92D6-FFD02030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C93796-59E4-47B9-A9EF-44BA974A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5935B-EB39-401C-B7AB-07E4074E7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9D16A0-61FB-4D78-9610-9D8F4554D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A0E29F-AC2C-4E92-AF28-643E97E85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CFB99D-64DC-4A2B-942C-6C74E9A4C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2A66D1-FEC5-4A92-B5F4-D8221B6D3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773D00-6A34-4386-84B2-F4CCDC94F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15783C-D579-4616-B663-CDBB39553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160D07-6F9A-43A8-9AB3-73130CD46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B62C08-A5F3-4397-96F6-6EFF3519E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4DC4AD-88FF-452B-A115-5A1D4523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BDA526-C8C9-4CC4-91D9-18D79D9F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1AF6D-4269-4FEB-B111-E405A8B32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03D553-8419-49F9-AE41-1F7DFADA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63822D-8D8C-48C2-95F8-158B6C2E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980902-22B4-4D15-995D-3DC07EB1B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A22E13-248A-4882-A410-73EFE8CB4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43EBFD-3978-4EB3-B56A-598BBF1ED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15CBE-B6CE-438D-9C5F-E08D5D9E4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AA98F-1AF6-4D6B-9415-27C84AABD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86BDD-B504-46AC-8021-EA68A6220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E498F-50E4-4B04-BEBC-0EB848446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EFC43-FB5E-4EE6-9DC0-A2550EEA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AD1D-5F5D-44F5-A990-3526C8732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6F68D-CE7A-405E-B6ED-783A671E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E0754-F201-4760-9D33-90655005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B8113-CC37-49E9-93F4-F90A07FAC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48931-B4B9-4CE5-90AB-E9FAC8DFC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2A6A8-B258-4FFE-9306-C0F87FD49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1A77B-AF8C-40DD-9FF2-5FD0AA392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0E524-1488-48C9-9082-476BE5CBB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09015-22F7-40BC-A21D-BB0CC46B7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E2DF4-A2E6-4243-921F-44059D4BB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C66ED-3D66-4F71-83E3-C3C38EF08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129F-54CB-46FA-A9B4-0E63A492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0CEDA-919A-479F-8FE9-ABF85B93E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FFF89-CF34-4C80-ABE2-E1D9708F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E4B3C-4DA8-45C3-9E0B-50819DF1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4FC49-808C-4974-9F22-B1101139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9D824-1117-4B1D-A17C-A0FD3B012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633A9-1648-401A-A227-415812886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E3ED2-65EB-4B43-91C6-6AD1D2FF1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B5696-2221-4AC3-803B-0B6C331EF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AD939-3A6D-43EA-8805-7970E5EEB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BC17B-4D79-4059-8E05-F2A8C52BB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BD4B-7BE4-4378-A2F6-20501D68A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A3419-8393-4C68-AC8C-D69FDB7B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95539-28CE-4F40-ABA7-A4AA41474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AD09C-9B64-4F57-8A3E-6658F7E16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64335-5C0B-4083-9DA4-81EF1345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15E64-DF16-47A6-9CB6-8CDFE709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B35FD-B7BE-49DE-A95F-4B6F1403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80856-68DD-44B8-92E4-8725772EB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B425A-DC18-4838-B9CA-D17EB0B7E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2D29A-2E2C-43D7-9E25-C82CCA4F6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16E05-8B94-4928-9715-3380C15E5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AB3C-C3AD-45F1-9DB6-82500EC9C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76C77-20AA-4ED0-9CDC-778055BFD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E5733-AE5B-47F0-BB18-681383046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69FB2-AE8B-48EC-A67E-364A562CB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768C1-ED64-4D24-9AD9-364536CAF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37D3C-3988-4771-99C4-FFA565DA8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91D56-8BC7-44F8-891D-7CD80D29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93B6D-5601-47BD-8D7C-8EEAEA10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86278-5359-4CB8-9ECC-6C4D6F50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7E54C-C400-4C85-B5B0-BC10D0CBE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04913-0630-49A3-8AFC-4FD75132E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20E0-80DD-4E37-B14E-91559545A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FC8EC-9D2D-4D58-B12C-F8F546464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305AF-9285-4CA6-BDA4-136C3EA9A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A565F-7D39-4043-AF64-31C3F25BE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B5768-309E-4E4A-B56D-3060A44D9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1C83B-DEBD-450F-A7AE-DB5621200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6718E-8411-48D8-8EE9-C4D558B4A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91FD0-2AD1-459D-A02D-EC0ECA93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12882-2077-4D9C-803A-020DF9AD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5F394-92A8-4F06-B4B2-6C3CC871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1BD7B-52CA-45FD-99DE-4E7420C6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343F-492C-430A-8E23-F4BEC409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E93DD-1282-4554-ABA0-DD08BB8CB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51E56-913D-4B0E-88CA-B997E6E48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79A18-BE00-4D71-BFDA-0FFB11549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B29902-5D1C-4CBC-A93E-AA44F994C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C997C5-D700-4252-BFCF-656917959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A9DA80-FD21-4997-B0C7-1EB6326F9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33B9BD-F271-4E83-89D6-35B7BBE1D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93A12E-C9E4-4AD5-ACA8-5258FDEE9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108F2-C1C7-4ECA-826F-D6852F820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206FE-E32D-4AAE-A7BF-86EF1BE5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61B8-A865-4808-A42C-6CD1C911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BAE3FC-25CE-4433-A794-8E791BE7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D8C04-1E62-4F2C-9A55-F8194A57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5C017-1AE5-4A5A-AB07-400BD26BD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8C20F-4CD6-4F51-9E32-6CD6E9B32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1192F-5B84-4B32-9DDC-46EABA7E1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A059B5-2CAA-4364-A0E1-C7116018E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7037FF-B7D5-4F2D-9E94-433BDC840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990003-270E-40CB-A9ED-9D60E73F3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0CCA0C-F8C5-43FA-944E-9B5D7B860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84A6DE-A373-4FF5-BCA5-D1E6F587B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D087-F981-4E58-9064-E36C09F2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ECD91E-85D0-42FD-AE1F-EF7D006E1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D88C9E-59F8-4EC4-A86E-280BBBFA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4A510-DB28-46EA-92B6-FD93F661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F91A9B-5F93-40B1-AAC4-83DEF595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7533D0-25BE-4EF4-A1DB-CAC187167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C5B006-7A37-43A2-A06B-A38A32761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912C0E-918E-4B57-9798-51E179065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8C768B-1EA2-47AB-B867-3E8056699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2BE899-716E-4E10-9857-C085EE1D1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AA0358-1F27-4454-A314-5BC608FA1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D5B9F-7A14-4949-948E-69B41B2690A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AD5EF-2195-433C-BDE2-6929C9E2F27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D92FF-BD6F-49FB-A4BB-92C7BB98211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8954F-859B-44C3-9AB4-D8B9278A995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84A38-6712-41B0-82F2-BC9A8BB4B02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38D8A-B365-44DD-A77F-84867E1CA33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A4B83-BACC-4EE7-9A86-723CA43835A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A70A5-35A0-44C7-923E-21AFD848D79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E5506-07EB-48B0-B957-DDE65CC1F63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F57CB-5AFC-4B67-8A2F-EC7EAC9DBBC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67EE5-2ABA-4119-8494-3AA3721305B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0DFC0-200A-4C1D-B313-85AAECE84BB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267 Otcovia dávni vedeli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Otcovia dávni vedel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pre Božiu pravdu trpieť, mrieť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Ich viery slávna ozvena</a:t>
            </a:r>
            <a:br>
              <a:rPr sz="4800"/>
            </a:b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chce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aj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nás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cestou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spásy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vies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ť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y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 viera otcov, svieť a veď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nás jasným svetlo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k ci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u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vpred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Do tváre smrti hľadel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 žalároch mreli stýran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o vierou zreli spásy deň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o blízkom snili svitan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y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 viera otcov, svieť a veď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nás jasným svetlo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k ci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u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vpred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y, viera otcov, vzácny skvost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pásy zvesť hlásať pomáha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elebiť chceme Božiu čes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svedectvu nášmu moci da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y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 viera otcov, svieť a veď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nás jasným svetlo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k ci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u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vpred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3T17:54:20Z</dcterms:modified>
  <cp:revision>24</cp:revision>
  <dc:subject/>
  <dc:title>Je veľký náš Pán, on slávy je Kráľ Nech do všetkých strán  spev vrúcnych znie chvál.</dc:title>
</cp:coreProperties>
</file>